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419-9CCF-46E2-8859-71725B96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DAA-5577-4C5B-8A05-EAEBAF3F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EAF-2171-4418-ACD7-B564C6F8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A0A-FD7F-4B7B-85EC-02482C83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C99-1CBD-4A0E-AC2D-4A053B72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B6A-4642-4D7A-83B9-CE9958CD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7D3-FDB7-4906-A8BE-8652A47E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BE8-4C71-4D46-8986-69D06C7C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1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DA6-ACC9-4140-BBB7-1663AAE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A4E-9CB0-4C84-B5D2-C8BA675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506-B95D-4F8A-900B-A4BFE0A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156-7E47-4083-A202-4D47329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747-BC49-4400-9C8C-03BBC2386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867280" y="189000"/>
            <a:ext cx="2808360" cy="11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52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33cc"/>
                </a:solidFill>
                <a:latin typeface="Impact"/>
              </a:rPr>
              <a:t>Risk Management</a:t>
            </a:r>
            <a:endParaRPr b="0" lang="en-US" sz="80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Youth education outside the classroom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33cc"/>
                </a:solidFill>
                <a:latin typeface="Impact"/>
              </a:rPr>
              <a:t>Negotiation Task</a:t>
            </a:r>
            <a:endParaRPr b="0" lang="en-US" sz="40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n group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4572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ach person take 4 post it notes and write on each what they consider to be the 4 most important elements to consider when planning an EOTC event.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(1 element per post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4572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raw up a target chart with Vital/ Very important / Important and place one post it in Vital, one in V. Important, and two in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4572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Impact"/>
              </a:rPr>
              <a:t>Why use EOTC?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hy do we need to take students outside the school enviro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ducation outside the classroom provides students with opportunities to identify hazards, manage risks, and to take positive action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Road Safety Education, practical on road experience for students is essential to enable them to take what has been taught in the classroom and apply it in real life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eaching of Road Safety without the practical on road element is of limited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33cc"/>
                </a:solidFill>
                <a:latin typeface="Impact"/>
              </a:rPr>
              <a:t>Safety Action Plan</a:t>
            </a:r>
            <a:endParaRPr b="0" lang="en-US" sz="40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Grou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cide on an EOTC activity that might be undertaken for School Road Safet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up a table with 4 columns. Head the first column “Possible losses/damage”, list these in column one. eg. Lost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umn two should be headed “ What could cause this to happe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umn three “What can we do to reduce the chance of this happen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umn four “ What will we do if this happen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Impact"/>
              </a:rPr>
              <a:t>Previous policy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Safety and EOTC: Good practice guide for NZ Sch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ven when an outside provider is contracted by the school to provide services, the board of trustees is still responsible for student safety. So a teacher involved in the event should be delegated to carry out this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Impact"/>
              </a:rPr>
              <a:t>Process Map</a:t>
            </a:r>
            <a:endParaRPr b="0" lang="en-US" sz="4400" spc="-1" strike="noStrike">
              <a:solidFill>
                <a:srgbClr val="0033cc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ocess map is a simple way for PEO’s to assess what steps they need to take in an EOT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ten Safety Action Plans are not necessary for eve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04:17Z</dcterms:created>
  <dc:creator>Glen Morrison</dc:creator>
  <dc:description/>
  <dc:language>en-US</dc:language>
  <cp:lastModifiedBy>chesna</cp:lastModifiedBy>
  <dcterms:modified xsi:type="dcterms:W3CDTF">2008-10-02T21:10:37Z</dcterms:modified>
  <cp:revision>16</cp:revision>
  <dc:subject/>
  <dc:title>NZ Police Youth Education Service</dc:title>
</cp:coreProperties>
</file>